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F83-D3C4-4866-AAD8-08CF9FC0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CCB-1EF6-4723-BD2B-DD8EB0F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51E-5B7B-4BB5-BD17-A03DBF2B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861-7DCB-4564-9016-1574A925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33B-655D-441E-89D1-D6927228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E86-3060-4B8F-80C7-B31E9CBA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C65-171F-4F4C-AC62-47B30FA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8CA-7F23-4440-9D82-AE820A2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C06-A7EE-45D8-A475-087CD8AF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6C3-0387-455D-8168-790B25D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8F8-F452-4F71-BD29-74FADC7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96A-D7B9-45E2-9C27-32A7B6C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/>
              <a:buChar char="l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5440-B949-4A97-83F0-3296109CF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90727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ŠIAULI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 MIESTO SAVIVALDYB</a:t>
            </a: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lang="en-GB" sz="4000" spc="-1" strike="noStrike">
                <a:solidFill>
                  <a:srgbClr val="003300"/>
                </a:solidFill>
                <a:latin typeface="Times New Roman"/>
              </a:rPr>
              <a:t>S</a:t>
            </a:r>
            <a:br>
              <a:rPr sz="4000"/>
            </a:br>
            <a:r>
              <a:rPr b="1" lang="lt-LT" sz="4000" spc="-1" strike="noStrike">
                <a:solidFill>
                  <a:srgbClr val="003300"/>
                </a:solidFill>
                <a:latin typeface="Times New Roman"/>
              </a:rPr>
              <a:t>M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225320"/>
            <a:ext cx="9072360" cy="20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2006 MET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Ų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lt-LT" sz="4800" spc="-1" strike="noStrike">
                <a:solidFill>
                  <a:srgbClr val="003300"/>
                </a:solidFill>
                <a:latin typeface="Times New Roman"/>
              </a:rPr>
              <a:t>TARYBOS </a:t>
            </a: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VEIKL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3300"/>
                </a:solidFill>
                <a:latin typeface="Times New Roman"/>
              </a:rPr>
              <a:t>ATASKAI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herbas-pilnas" descr=""/>
          <p:cNvPicPr/>
          <p:nvPr/>
        </p:nvPicPr>
        <p:blipFill>
          <a:blip r:embed="rId1"/>
          <a:stretch/>
        </p:blipFill>
        <p:spPr>
          <a:xfrm>
            <a:off x="8077320" y="380880"/>
            <a:ext cx="1563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907236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2006 m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ta Tarybos posėdžių – 13 ir 1 iškilming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Tarybos sprendimų projektų – 52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iimta Tarybos sprendimų – 48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epriimta sprendimų – 17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atsiėmė projektų rengėjai –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65000"/>
              </a:lnSpc>
              <a:spcAft>
                <a:spcPts val="140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šbraukta iš darbotvarkės – 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posėdžiuose priimta 16 protokolinių įpareigojimų Savivaldybės administraci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HPIM4161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500720" cy="59738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907272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. rugsėjo 7 d. Šiaulių miesto savivaldybės tarybos sprendimu miesto Garbės piliečio vardas suteiktas Alfonsui Armalui, Kaziui Knizikevičiui ir Pranui Piaulok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2006 metais priimtos 4 piliečių priesaikos Lietuvos Respublika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83908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 u="sng">
                <a:solidFill>
                  <a:srgbClr val="003300"/>
                </a:solidFill>
                <a:uFillTx/>
                <a:latin typeface="Times New Roman"/>
              </a:rPr>
              <a:t>Daugiausia dėmesio 2006 metais skirta klausi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1.Dėl miesto Bendrojo plano koncepc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2.Dėl Šiaulių miesto 2007-2016 metų strateginio pl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3.Dėl rinkliavos mokesčių už komunalinių atliekų surinkimą ir tvarkymą dydžių nustatym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4.Dėl savivaldybių optimalaus skaičiaus nustatymo ir jų teritorijų keit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83908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ero potvarkiais įforminta 220 sprendimų, iš j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ėl komandiruočių – 11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adrų klausimais – 1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t. klausimais – 1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ikštos 272 savivaldybės mero padėk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gyventojų priimamajame meras Vytautas Juškus priėmė 68 interesant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839080" cy="626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s kolegij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ytautas Jušku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3 posėdžiai, juose svarstyti 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Finansų ir biudže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Vaclovas Vingr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20 posėdžių, juose apsvarstyti 253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Miesto ūkio ir plėtros komit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Edvardas Peleck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ngė 22 posėdžius ir svarstė 332 klausimus</a:t>
            </a:r>
            <a:r>
              <a:rPr b="1" i="1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83908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veikatos ir socialinių reikalų komit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Ferdinandas Bals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buvo svarstyti 232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vietimo, kultūros ir sporto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Mindaugas Stakvilevič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19 posėdžių, apsvarstyti 178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Kontrolės ko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as Rimantas Lazdyna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o 7 posėdžiai, kuriuose nagrinėta 14 klausim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teikta 10 rekomendacijų Savivaldybės tary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r Administrac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Etikos komis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(pirmininkė Nijolė Budryt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osėdžiavo 4 kartus, buvo svarstomi 4 klausim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90723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avivaldybės taryboje 2006 m. buvo 5 frakci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etuvos socialdemokratų (vadovas R.Lazdynas) – 11 Tarybos nari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ir centro (vadovai L.Dinius,V.Vingras) –  9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Liberalų demokratų ( vadovas V.Japertas) –           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cionaldarbininkų (vadovas M.Murza) –               4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Dešiniųjų frakcija (nuo vasario mėn., vadovė B.M.Paplauskienė) – 3 Tarybos naria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Taryboje buvo 1 Socialliberalų (NS) partijos nar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640" y="3060720"/>
            <a:ext cx="9072720" cy="7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č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i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ū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u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ž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 d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ė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mes</a:t>
            </a:r>
            <a:r>
              <a:rPr b="1" i="1" lang="lt-LT" sz="5400" spc="-1" strike="noStrike">
                <a:solidFill>
                  <a:srgbClr val="003300"/>
                </a:solidFill>
                <a:latin typeface="Times New Roman"/>
              </a:rPr>
              <a:t>į</a:t>
            </a:r>
            <a:r>
              <a:rPr b="1" i="1" lang="en-GB" sz="5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iauliai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454880" cy="561960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9072720" cy="53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Šiaulių miesto savivaldybėje parengti ir įgyvendinami 36 investiciniai projektai, kurių vertė 122,8 mln. Lt. (9 projektai remiami iš ES struktūrinių fondų, 20 - valstybės lėšomis,               7 - Europos programų lėšom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 Aukštabalio multifunkcinio komplekso statyba. Projekto vertė 63,5 mln. Lt, iš kurių 41,6 mln. Lt - ES finansinė parama, 11,2 mln. Lt -valstybės, 10,7 mln. Lt - Savivaldybės lėš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vykdytas Talkšos ežero pietinės dalies valymo        I - asis etapas ( projekto vertė 490,2 tūkst. L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907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P1333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88480" cy="606564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907236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Įgyvendinamas Industrinio parko įkūrimo projekto I-asis etapas: projekto vertė 28,8 mln. Lt (ES lėšos – 11,3 mln. Lt, Valstybės – 3,8 mln. Lt, Savivaldybės – 13,8 mln. 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radėtas įgyvendinti miesto vandentiekio tinklų vystymo ir renovacijos projektas, kurio I-ojo etapo vertė – apie 9 mln. eur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Gatvių rekonstrukcijai ir asfaltavimui skirta apie 14 mln. Lt, daugiabučių kiemų remontui - apie 1,5 mln.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90727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Pastatytas prekybos ir pramogų kompleksas „Saulės miestas“, jame integruota nauja Autobusų sto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 pėsčiųjų bulvaro Vilniaus g. dal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600" spc="-1" strike="noStrike">
                <a:solidFill>
                  <a:srgbClr val="003300"/>
                </a:solidFill>
                <a:latin typeface="Times New Roman"/>
              </a:rPr>
              <a:t>Rekonstruotas Prisikėlimo aikštės skveras, jame pastatytas fontanas „Saulės diskai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GP117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554960" cy="5665680"/>
          </a:xfrm>
          <a:prstGeom prst="rect">
            <a:avLst/>
          </a:prstGeom>
          <a:ln w="25560">
            <a:solidFill>
              <a:srgbClr val="00ff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072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Vis daugiau miesto mokyklų moksleivių mokosi renovuotose, šiltesnėse ir jaukesnėse mokyklose, keičiami langai, stogo dangos vaikų lopšeliuose –darželiuose, tvarkomos sporto bazės, atnaujinamas futbolo stadionas, renovuojamos kultūros įstai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Inicijuotas Šiaulių miesto tarybos sprendimas uždrausti Rugsėjo 1-ąją mieste prekiauti alkoholiniais gėrimais. Tarybos iniciatyvą parėmė  LR Seimas, priėmęs Įstatymo pataisą, uždraudusią Rugsėjo 1-ąją prekiauti alkoholiu visoje šaly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9072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4000" spc="-1" strike="noStrike">
                <a:solidFill>
                  <a:srgbClr val="003300"/>
                </a:solidFill>
                <a:latin typeface="Times New Roman"/>
              </a:rPr>
              <a:t>2006 metais Šiauliu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907236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Suremontuotas Dienos užimtumo centras „Goda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Nakvynės namuose sudėti nauji langai, apšiltintas ir nauja danga padengtas sto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3300"/>
              </a:buClr>
              <a:buSzPct val="4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t-LT" sz="3200" spc="-1" strike="noStrike">
                <a:solidFill>
                  <a:srgbClr val="003300"/>
                </a:solidFill>
                <a:latin typeface="Times New Roman"/>
              </a:rPr>
              <a:t>Parengtas Savarankiško gyvenimo (senelių) namų steigimo projektas, ieškoma lėšų jo įgyvendinim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vile</cp:lastModifiedBy>
  <dcterms:modified xsi:type="dcterms:W3CDTF">2007-03-16T08:03:07Z</dcterms:modified>
  <cp:revision>127</cp:revision>
  <dc:subject/>
  <dc:title>ŠIAULIŲ MIESTO SAVIVALDYBĖS KONTROLIERIAUS TARNYBA</dc:title>
</cp:coreProperties>
</file>